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9A5-474B-43E2-9860-70580B84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FE0E-8E83-4D8A-8665-C0D47E57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1A7-3FD2-4145-865C-66A5CF0C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9B4-4652-40D2-BCB7-D299A1D8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DB6-1F7F-449A-A2FC-860404B7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5E3-1F8E-487C-A66D-58CFD067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B67-D2CE-482D-84F3-50E075E0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AB0-F3F4-413A-9AFB-525DAF09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AE7-1BB1-4155-92DD-35B672A1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D07-0BE5-43B9-9871-BCD202FD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394-D1A7-479C-875D-1DC19D5F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1B7-78C7-4B03-A38D-A9CBA599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00A2-3B99-4C9B-BFBD-E22EDFFE7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bels.uoregon.edu/measures/" TargetMode="External"/><Relationship Id="rId2" Type="http://schemas.openxmlformats.org/officeDocument/2006/relationships/hyperlink" Target="https://dibels.uoregon.edu/measures/" TargetMode="External"/><Relationship Id="rId3" Type="http://schemas.openxmlformats.org/officeDocument/2006/relationships/hyperlink" Target="https://dibels.uoregon.edu/measures/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BELS Manuals &amp;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553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on and Sc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Materials-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Monitoring Materials-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a DIBELS Account online at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bels.uoregon.edu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measur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0" descr="dibels download 1.gif"/>
          <p:cNvPicPr/>
          <p:nvPr/>
        </p:nvPicPr>
        <p:blipFill>
          <a:blip r:embed="rId4"/>
          <a:stretch/>
        </p:blipFill>
        <p:spPr>
          <a:xfrm>
            <a:off x="609480" y="1523880"/>
            <a:ext cx="8382240" cy="509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3244800">
            <a:off x="4114800" y="4114440"/>
            <a:ext cx="6062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-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857240"/>
            <a:ext cx="69339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1400"/>
            <a:ext cx="7620120" cy="6816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58000" y="35053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5029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60660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 Man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Benchmark and Progress Monitoring Materials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Revised (June 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924680" cy="4952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1384800">
            <a:off x="188640" y="5144760"/>
            <a:ext cx="838080" cy="606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048120" y="4648320"/>
            <a:ext cx="6062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Booklet Is a Separate File Which Can Be Sa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518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16:41:37Z</dcterms:created>
  <dc:creator>office</dc:creator>
  <dc:description/>
  <dc:language>en-US</dc:language>
  <cp:lastModifiedBy>office</cp:lastModifiedBy>
  <dcterms:modified xsi:type="dcterms:W3CDTF">2010-08-13T16:58:22Z</dcterms:modified>
  <cp:revision>2</cp:revision>
  <dc:subject/>
  <dc:title>Slide 1</dc:title>
</cp:coreProperties>
</file>